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41C01-3E75-4498-95E7-7CC9ED95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56B21-ACB2-402B-BBB1-FF5044E2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C4F49-27AD-4828-BB2B-6DCB22F10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06975-A962-4D81-80D1-65325F3B4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BC5B4-5F0C-4A59-8E0F-3C32B194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DA7C-D3BB-4E56-9D9C-D946D077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60DCC-850D-444F-AE69-24C2844A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9A2B5-9CC3-4DD1-9E2A-B67C3E08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7F91-D58B-4F10-AD35-6A6CAD62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BF8CF-7A14-4677-BCE1-7453D8103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C314-11FA-4AE2-96D2-510E187F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2C41-9ABD-4A97-8640-5706E4203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F77D-933A-481C-A7BE-19DB43170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y-Proofing Your Schoo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skills to stand up to bull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Five</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d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Attribut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Abilities</a:t>
            </a:r>
            <a:endParaRPr b="0" lang="en-US" sz="3600" spc="-1" strike="noStrike">
              <a:solidFill>
                <a:srgbClr val="000000"/>
              </a:solidFill>
              <a:latin typeface="Arial"/>
            </a:endParaRPr>
          </a:p>
        </p:txBody>
      </p:sp>
      <p:pic>
        <p:nvPicPr>
          <p:cNvPr id="61" name="" descr=""/>
          <p:cNvPicPr/>
          <p:nvPr/>
        </p:nvPicPr>
        <p:blipFill>
          <a:blip r:embed="rId1"/>
          <a:stretch/>
        </p:blipFill>
        <p:spPr>
          <a:xfrm>
            <a:off x="4653000" y="1698480"/>
            <a:ext cx="4033800" cy="43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 Bully Does When Caugh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es that he did anything wro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vializes the event:  “I was just having some fun with hi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tacks:  “He went psycho on 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victim status:  “He was looking at me funn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 on the support of bystanders to deny anything the bullied kid s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sing (as opposed to taunting)</a:t>
            </a:r>
            <a:endParaRPr b="0" lang="en-US" sz="4400" spc="-1" strike="noStrike">
              <a:solidFill>
                <a:srgbClr val="000000"/>
              </a:solidFill>
              <a:latin typeface="Arial"/>
            </a:endParaRPr>
          </a:p>
        </p:txBody>
      </p:sp>
      <p:sp>
        <p:nvSpPr>
          <p:cNvPr id="65" name="PlaceHolder 2"/>
          <p:cNvSpPr>
            <a:spLocks noGrp="1"/>
          </p:cNvSpPr>
          <p:nvPr>
            <p:ph/>
          </p:nvPr>
        </p:nvSpPr>
        <p:spPr>
          <a:xfrm>
            <a:off x="380520" y="1371600"/>
            <a:ext cx="815364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1.</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llows the teaser and teased to swap roles easil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2.</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n’t intended to hurt</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3.</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Maintains basic dignit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4.</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okes fun in a lighthearted, clever and benign</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a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5.</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meant to get both parties to laugh</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6.</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only a small part of activities shared by kids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ho have something in common.</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7.</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innocent in motive</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8.</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discontinued when someone gets upset</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unting</a:t>
            </a:r>
            <a:endParaRPr b="0" lang="en-US" sz="4400" spc="-1" strike="noStrike">
              <a:solidFill>
                <a:srgbClr val="000000"/>
              </a:solidFill>
              <a:latin typeface="Arial"/>
            </a:endParaRPr>
          </a:p>
        </p:txBody>
      </p:sp>
      <p:sp>
        <p:nvSpPr>
          <p:cNvPr id="67" name="PlaceHolder 2"/>
          <p:cNvSpPr>
            <a:spLocks noGrp="1"/>
          </p:cNvSpPr>
          <p:nvPr>
            <p:ph/>
          </p:nvPr>
        </p:nvSpPr>
        <p:spPr>
          <a:xfrm>
            <a:off x="762120" y="990720"/>
            <a:ext cx="815328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based on an imbalance of power and is one-sided</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intended to harm</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volves humiliating, cruel, demeaning or bigoted comments thinly disguised as jokes</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cludes laughter directed at the targe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meant to diminish the self-worth of the targe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6.</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duces fear of further taunting or can be a prelude to physical bullying</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sinister in motive</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8.</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Continues when targeted kid becomes distressed</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shamed of being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fraid of retal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can</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will</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bought into the lie that bullying is a necessary part of growing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shamed of being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fraid of retal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can</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will</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bought into the lie that bullying is a necessary part of growing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 that adults are part of the lie (Some adults in their lives may have bullied them; might have given other kids “permission” to torment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learned that ratting or telling is bad, not c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ce a Bystander Pays</a:t>
            </a:r>
            <a:endParaRPr b="0" lang="en-US" sz="4400" spc="-1" strike="noStrike">
              <a:solidFill>
                <a:srgbClr val="000000"/>
              </a:solidFill>
              <a:latin typeface="Arial"/>
            </a:endParaRPr>
          </a:p>
        </p:txBody>
      </p:sp>
      <p:sp>
        <p:nvSpPr>
          <p:cNvPr id="75" name=""/>
          <p:cNvSpPr/>
          <p:nvPr/>
        </p:nvSpPr>
        <p:spPr>
          <a:xfrm>
            <a:off x="685800" y="1600200"/>
            <a:ext cx="7635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respect of bystander is eroded; cruelty is riveting to watch but distressing to contempla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n the end, we will remember not the words of our enemies, but the silence of our friend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Dr. Martin Luther King J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chool Rul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ot bully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try to help students who are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make it a point to include students who are easily left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know somebody is being bullied, we will tell and adult at school and an adult at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762120"/>
            <a:ext cx="79246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seling aggressive youth</a:t>
            </a:r>
            <a:endParaRPr b="0" lang="en-US" sz="3600" spc="-1" strike="noStrike">
              <a:solidFill>
                <a:srgbClr val="000000"/>
              </a:solidFill>
              <a:latin typeface="Arial"/>
            </a:endParaRPr>
          </a:p>
        </p:txBody>
      </p:sp>
      <p:sp>
        <p:nvSpPr>
          <p:cNvPr id="79"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elp students think about these questions after they know what their consequences are:</a:t>
            </a:r>
            <a:r>
              <a:rPr b="0" lang="en-US" sz="4000" spc="-1" strike="noStrike">
                <a:solidFill>
                  <a:srgbClr val="000000"/>
                </a:solidFill>
                <a:latin typeface="Arial"/>
              </a:rPr>
              <a:t> </a:t>
            </a:r>
            <a:endParaRPr b="0" lang="en-US" sz="40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rial"/>
              </a:rPr>
              <a:t>What did you do?</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was wrong with that?</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rial"/>
              </a:rPr>
              <a:t>What problem were you trying to solve?</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 will you solve that problem next time?</a:t>
            </a:r>
            <a:endParaRPr b="0" lang="en-US" sz="2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As students reflect on their behavior they learn how their behavior affects others and find different ways to meet their needs.</a:t>
            </a:r>
            <a:endParaRPr b="0" lang="en-US" sz="2400" spc="-1" strike="noStrike">
              <a:solidFill>
                <a:srgbClr val="000000"/>
              </a:solidFill>
              <a:latin typeface="Arial"/>
            </a:endParaRPr>
          </a:p>
        </p:txBody>
      </p:sp>
      <p:sp>
        <p:nvSpPr>
          <p:cNvPr id="80" name=""/>
          <p:cNvSpPr/>
          <p:nvPr/>
        </p:nvSpPr>
        <p:spPr>
          <a:xfrm>
            <a:off x="1295280" y="1752480"/>
            <a:ext cx="650268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ing majority"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bullies nor vict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rts itsel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arn to support victims of bullying care about others by including them in friendships and activities. In doing so, this caring majority strips a small minority of bullies of its power to intimid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20840" y="914400"/>
            <a:ext cx="67057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ing targets:</a:t>
            </a:r>
            <a:endParaRPr b="0" lang="en-US" sz="3600" spc="-1" strike="noStrike">
              <a:solidFill>
                <a:srgbClr val="000000"/>
              </a:solidFill>
              <a:latin typeface="Arial"/>
            </a:endParaRPr>
          </a:p>
        </p:txBody>
      </p:sp>
      <p:sp>
        <p:nvSpPr>
          <p:cNvPr id="82" name=""/>
          <p:cNvSpPr/>
          <p:nvPr/>
        </p:nvSpPr>
        <p:spPr>
          <a:xfrm>
            <a:off x="533520" y="1752480"/>
            <a:ext cx="79246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ying is a loss experience:</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safety</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self-esteem: </a:t>
            </a:r>
            <a:r>
              <a:rPr b="0" i="1" lang="en-US" sz="2800" spc="-1" strike="noStrike">
                <a:solidFill>
                  <a:srgbClr val="000000"/>
                </a:solidFill>
                <a:latin typeface="Times New Roman"/>
              </a:rPr>
              <a:t>“They bully you, then you bully yourself”</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belonging</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control over own lif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How do we support youth who are experiencing losses? We protect from more losses, comfort them and help them not blame themselves for what has happened. We don’t usually tell them to pretend it doesn’t hurt.</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447920" y="1600200"/>
            <a:ext cx="650232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learn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victims of bullying and to care about others by including them in friendships and activities. In doing so, this caring majority strips a small minority of bullies of its power to intimid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 = Violen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ques get their power from exclud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e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24280" y="762120"/>
            <a:ext cx="3419640" cy="5486400"/>
          </a:xfrm>
          <a:prstGeom prst="rect">
            <a:avLst/>
          </a:prstGeom>
          <a:ln w="0">
            <a:noFill/>
          </a:ln>
        </p:spPr>
      </p:pic>
      <p:sp>
        <p:nvSpPr>
          <p:cNvPr id="52" name=""/>
          <p:cNvSpPr/>
          <p:nvPr/>
        </p:nvSpPr>
        <p:spPr>
          <a:xfrm>
            <a:off x="304920" y="2438280"/>
            <a:ext cx="386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cc00"/>
                </a:solidFill>
                <a:latin typeface="Times New Roman"/>
              </a:rPr>
              <a:t>The Bul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Markers of Bullying</a:t>
            </a:r>
            <a:endParaRPr b="0" lang="en-US" sz="4400" spc="-1" strike="noStrike">
              <a:solidFill>
                <a:srgbClr val="000000"/>
              </a:solidFill>
              <a:latin typeface="Arial"/>
            </a:endParaRPr>
          </a:p>
        </p:txBody>
      </p:sp>
      <p:sp>
        <p:nvSpPr>
          <p:cNvPr id="54" name=""/>
          <p:cNvSpPr/>
          <p:nvPr/>
        </p:nvSpPr>
        <p:spPr>
          <a:xfrm>
            <a:off x="1983960" y="1981080"/>
            <a:ext cx="5525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balance of Pow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nt to Har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eat of Further Ag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or</a:t>
            </a:r>
            <a:endParaRPr b="0" lang="en-US" sz="36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ts of Bullies</a:t>
            </a: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ke to dominate</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ke to use others to get what they want</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it hard to perspective-take</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oncerned only with their own wants and pleasures and not the needs, rights, feelings of others.</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 to hurt kids when adults are not around.</a:t>
            </a:r>
            <a:endParaRPr b="0" lang="en-US" sz="3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ts of Bulli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weaker kids as pr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lame, criticism, and false allegations to project their own inadequacies on targ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se to accept responsibility for their 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foresight—can’t consider short vs. long-term conseque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ve attention</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00:19:29Z</dcterms:created>
  <dc:creator>BASD</dc:creator>
  <dc:description/>
  <dc:language>en-US</dc:language>
  <cp:lastModifiedBy>BASD</cp:lastModifiedBy>
  <dcterms:modified xsi:type="dcterms:W3CDTF">2005-10-25T11:53:22Z</dcterms:modified>
  <cp:revision>2</cp:revision>
  <dc:subject/>
  <dc:title>Bully-Proofing Your School, </dc:title>
</cp:coreProperties>
</file>